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2BE0-9696-49B8-AE61-B4DB1D7E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6559-4936-4F97-8B10-F2A20F8D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897-3106-4AD9-8E2B-DBAFEF48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2526-4920-40AE-9308-C1C5BD6D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8A6-13B0-4D91-9994-DF571224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A4D-0128-4590-ACF6-0702ACA5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335-2847-4B4E-8E70-26DE63BB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2EDA-735F-482B-9B9C-B16C7837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142-2583-4A75-B1B5-BDCB338A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464-9ECE-4007-BCA9-1FA81E26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71F-6436-43C9-942F-1AF7D1A6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9FF7-C2D2-4F17-9603-65D737C5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5610-FADF-40C6-A8B3-C5E777AA0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1043928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99"/>
                </a:solidFill>
                <a:latin typeface="Berlin Sans FB Demi"/>
              </a:rPr>
              <a:t>Movem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666520" y="4343400"/>
            <a:ext cx="5334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Broadway"/>
              </a:rPr>
              <a:t>By:</a:t>
            </a:r>
            <a:r>
              <a:rPr b="0" lang="en-US" sz="4800" spc="-1" strike="noStrike">
                <a:solidFill>
                  <a:srgbClr val="cc66ff"/>
                </a:solidFill>
                <a:latin typeface="Broadway"/>
              </a:rPr>
              <a:t> </a:t>
            </a:r>
            <a:r>
              <a:rPr b="0" lang="en-US" sz="4800" spc="-1" strike="noStrike">
                <a:solidFill>
                  <a:srgbClr val="cc00ff"/>
                </a:solidFill>
                <a:latin typeface="Broadway"/>
              </a:rPr>
              <a:t>Alissa Tam</a:t>
            </a:r>
            <a:r>
              <a:rPr b="0" lang="en-US" sz="4800" spc="-1" strike="noStrike">
                <a:solidFill>
                  <a:srgbClr val="cc66ff"/>
                </a:solidFill>
                <a:latin typeface="Broadway"/>
              </a:rPr>
              <a:t> </a:t>
            </a:r>
            <a:r>
              <a:rPr b="0" lang="en-US" sz="4800" spc="-1" strike="noStrike">
                <a:solidFill>
                  <a:srgbClr val="ff3399"/>
                </a:solidFill>
                <a:latin typeface="Broadway"/>
              </a:rPr>
              <a:t>and</a:t>
            </a:r>
            <a:r>
              <a:rPr b="0" lang="en-US" sz="4800" spc="-1" strike="noStrike">
                <a:solidFill>
                  <a:srgbClr val="cc66ff"/>
                </a:solidFill>
                <a:latin typeface="Broadway"/>
              </a:rPr>
              <a:t> </a:t>
            </a:r>
            <a:r>
              <a:rPr b="0" lang="en-US" sz="4800" spc="-1" strike="noStrike">
                <a:solidFill>
                  <a:srgbClr val="66ff33"/>
                </a:solidFill>
                <a:latin typeface="Broadway"/>
              </a:rPr>
              <a:t>Bridget Durgin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auhaus 93"/>
              </a:rPr>
              <a:t>Water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Many Russian rivers run from south to north making their use difficult during the win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Most ports are covered in snow and 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The traders must transport their goods another 200 miles to reach the nearest part of inland Russ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Matura MT Script Capitals"/>
              </a:rPr>
              <a:t>Port Ci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Russia has two important ports called Kaliningrad and St. Petersbur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Kaliningrad is located on a small island in the Baltic Se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It’s the only port that stays ice-free the whol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In the summer they have the choice of keeping their goods on the ships to travel 500 miles to St. Petersbur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vie"/>
              </a:rPr>
              <a:t>Railro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Railroad travel is the main transportation of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In 1995 Russia had 154,000km of railroads but 26% of them were electr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Railroad traffic dropped since the beginning of the Russian economic reform, making the economy b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Kristen ITC"/>
              </a:rPr>
              <a:t>Air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Jokerman"/>
              </a:rPr>
              <a:t>The donation of air service of total travel has dropped to 12.5% by 199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Jokerman"/>
              </a:rPr>
              <a:t>The number of passengers flying was less then half the 1990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Jokerman"/>
              </a:rPr>
              <a:t>They pay part of air fares and long distance flights between cities accounted for much of the air activity in the early 199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blic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viet citizens rely on public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six Russian cities have underground transportation, Moscow, St. Petersburg, Yekaterinburg, Nizhniy, Novgorod, Novosibirsk, and Sama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t of vehicles require expensive repair and moder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5Z</dcterms:created>
  <dc:creator>Student</dc:creator>
  <dc:description/>
  <dc:language>en-US</dc:language>
  <cp:lastModifiedBy> </cp:lastModifiedBy>
  <dcterms:modified xsi:type="dcterms:W3CDTF">2010-12-20T15:42:09Z</dcterms:modified>
  <cp:revision>5</cp:revision>
  <dc:subject/>
  <dc:title>Movement</dc:title>
</cp:coreProperties>
</file>